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655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E6B-46AC-42CD-B0F5-7A25661D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6BE-8349-4226-8923-E3DC1A38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574-17EE-4E2B-ADDC-6EAE679D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9CD-60FE-41F9-BA7F-F4AC1443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AB4-7954-4CD4-B4D7-CE2928AA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9793-3C7F-4086-87ED-97A2B18F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973-44C0-4FAA-B5A5-AE304D71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FCE-EED2-4B96-A953-D03C599A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BB0-F335-4432-AF3E-AF55E1F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EE1-0096-465D-934F-933CE247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F76-699E-4928-81D6-D65AFF9D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E7B-7B0F-4B37-89D5-6371EB17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9B9D-2C10-4A6D-A8B8-F39D11F69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6098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imes New Roman"/>
              </a:rPr>
              <a:t>Fractal Research, Technology, Development, </a:t>
            </a:r>
            <a:br>
              <a:rPr sz="1800"/>
            </a:br>
            <a:r>
              <a:rPr b="1" lang="nl-NL" sz="1800" spc="-1" strike="noStrike">
                <a:solidFill>
                  <a:srgbClr val="ff0000"/>
                </a:solidFill>
                <a:latin typeface="Times New Roman"/>
              </a:rPr>
              <a:t>Design and Production of Artificial Fractal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838080"/>
            <a:ext cx="8839440" cy="586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752480"/>
            <a:ext cx="1447560" cy="14479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(the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4495680"/>
            <a:ext cx="1447560" cy="13716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of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ob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(pract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1752480"/>
            <a:ext cx="1447560" cy="1447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sig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(ide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990720"/>
            <a:ext cx="914400" cy="5638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4680" y="990720"/>
            <a:ext cx="914400" cy="56386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3124080"/>
            <a:ext cx="1447560" cy="14479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of 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276720"/>
            <a:ext cx="457200" cy="1143000"/>
          </a:xfrm>
          <a:prstGeom prst="upDown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990720"/>
            <a:ext cx="640080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 Geometry in Nature (Mandelbr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6019920"/>
            <a:ext cx="640080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ractal Generator in quaternions (foxe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066680" y="114300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543800" y="106596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4495680"/>
            <a:ext cx="144756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f (re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rac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6248520"/>
            <a:ext cx="533520" cy="304560"/>
          </a:xfrm>
          <a:prstGeom prst="leftArrow">
            <a:avLst>
              <a:gd name="adj1" fmla="val 50000"/>
              <a:gd name="adj2" fmla="val 437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36576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3276720"/>
            <a:ext cx="457200" cy="1143000"/>
          </a:xfrm>
          <a:prstGeom prst="upDownArrow">
            <a:avLst>
              <a:gd name="adj1" fmla="val 50000"/>
              <a:gd name="adj2" fmla="val 497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525780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1981080"/>
            <a:ext cx="2057400" cy="457200"/>
          </a:xfrm>
          <a:prstGeom prst="leftRightArrow">
            <a:avLst>
              <a:gd name="adj1" fmla="val 50000"/>
              <a:gd name="adj2" fmla="val 89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6324480"/>
            <a:ext cx="533520" cy="304920"/>
          </a:xfrm>
          <a:prstGeom prst="left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365760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5146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724280"/>
            <a:ext cx="381240" cy="533520"/>
          </a:xfrm>
          <a:prstGeom prst="up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3:16:49Z</dcterms:created>
  <dc:creator>Jules Ruis</dc:creator>
  <dc:description/>
  <dc:language>en-US</dc:language>
  <cp:lastModifiedBy>Jules Ruis</cp:lastModifiedBy>
  <cp:lastPrinted>2003-12-22T12:10:18Z</cp:lastPrinted>
  <dcterms:modified xsi:type="dcterms:W3CDTF">2003-12-22T12:11:21Z</dcterms:modified>
  <cp:revision>4</cp:revision>
  <dc:subject/>
  <dc:title>Fractal Research, Technology, Development, Design and Production of Products</dc:title>
</cp:coreProperties>
</file>