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65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07D2-FEA4-4AB5-8C50-5B532C5E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C92B-1798-401A-986A-9BCB6242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5BBA-4DE4-46B3-ADEA-EF128E86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DD07-BC2B-498C-84A1-8F67C00F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5CA3-F2B2-46AE-9AA7-F5E0CA14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4072-E071-4EF5-9013-45260EAE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38C1-BA3A-4F73-92B3-78B25F7C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4175-1252-4466-9718-1EEE0218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8FAB-02B0-401B-BF9B-6B1DB43C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72C5-3FF3-48E0-BBE9-7CBD8AA7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2782-ABE0-4D00-980E-502F9DB2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7B9D-3548-4827-933D-9256B757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7FE1-D608-4815-85E6-E88520877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6098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Times New Roman"/>
              </a:rPr>
              <a:t>Fractal Research, Technology, Development, </a:t>
            </a:r>
            <a:br>
              <a:rPr sz="1800"/>
            </a:br>
            <a:r>
              <a:rPr b="1" lang="nl-NL" sz="1800" spc="-1" strike="noStrike">
                <a:solidFill>
                  <a:srgbClr val="ff0000"/>
                </a:solidFill>
                <a:latin typeface="Times New Roman"/>
              </a:rPr>
              <a:t>Design and Production of Artificial Fractal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838080"/>
            <a:ext cx="8839440" cy="586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1752480"/>
            <a:ext cx="1447560" cy="14479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Sc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(the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4495680"/>
            <a:ext cx="1447560" cy="13716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of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Rob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(practi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9920" y="1752480"/>
            <a:ext cx="1447560" cy="1447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Design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Frac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(ide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990720"/>
            <a:ext cx="914400" cy="5638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rac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924680" y="990720"/>
            <a:ext cx="914400" cy="56386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rac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3124080"/>
            <a:ext cx="1447560" cy="14479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of 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Frac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276720"/>
            <a:ext cx="457200" cy="1143000"/>
          </a:xfrm>
          <a:prstGeom prst="upDownArrow">
            <a:avLst>
              <a:gd name="adj1" fmla="val 50000"/>
              <a:gd name="adj2" fmla="val 497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990720"/>
            <a:ext cx="64008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ractal Geometry in Nature (Mandelbro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6019920"/>
            <a:ext cx="640080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Fractal Generator in quaternions (foxe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066680" y="114300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7543800" y="106596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19920" y="4495680"/>
            <a:ext cx="144756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toty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f (re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rac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43800" y="6248520"/>
            <a:ext cx="533520" cy="304560"/>
          </a:xfrm>
          <a:prstGeom prst="leftArrow">
            <a:avLst>
              <a:gd name="adj1" fmla="val 50000"/>
              <a:gd name="adj2" fmla="val 437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3657600"/>
            <a:ext cx="685800" cy="304920"/>
          </a:xfrm>
          <a:prstGeom prst="leftArrow">
            <a:avLst>
              <a:gd name="adj1" fmla="val 50000"/>
              <a:gd name="adj2" fmla="val 562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3276720"/>
            <a:ext cx="457200" cy="1143000"/>
          </a:xfrm>
          <a:prstGeom prst="upDownArrow">
            <a:avLst>
              <a:gd name="adj1" fmla="val 50000"/>
              <a:gd name="adj2" fmla="val 497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5257800"/>
            <a:ext cx="2057400" cy="457200"/>
          </a:xfrm>
          <a:prstGeom prst="leftRightArrow">
            <a:avLst>
              <a:gd name="adj1" fmla="val 50000"/>
              <a:gd name="adj2" fmla="val 895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1981080"/>
            <a:ext cx="2057400" cy="457200"/>
          </a:xfrm>
          <a:prstGeom prst="leftRightArrow">
            <a:avLst>
              <a:gd name="adj1" fmla="val 50000"/>
              <a:gd name="adj2" fmla="val 895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6324480"/>
            <a:ext cx="533520" cy="304920"/>
          </a:xfrm>
          <a:prstGeom prst="leftArrow">
            <a:avLst>
              <a:gd name="adj1" fmla="val 50000"/>
              <a:gd name="adj2" fmla="val 437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048120" y="365760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2514600"/>
            <a:ext cx="381240" cy="533520"/>
          </a:xfrm>
          <a:prstGeom prst="downArrow">
            <a:avLst>
              <a:gd name="adj1" fmla="val 50000"/>
              <a:gd name="adj2" fmla="val 34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724280"/>
            <a:ext cx="381240" cy="533520"/>
          </a:xfrm>
          <a:prstGeom prst="upArrow">
            <a:avLst>
              <a:gd name="adj1" fmla="val 50000"/>
              <a:gd name="adj2" fmla="val 34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3:16:49Z</dcterms:created>
  <dc:creator>Jules Ruis</dc:creator>
  <dc:description/>
  <dc:language>en-US</dc:language>
  <cp:lastModifiedBy>Jules Ruis</cp:lastModifiedBy>
  <cp:lastPrinted>2003-12-22T12:10:18Z</cp:lastPrinted>
  <dcterms:modified xsi:type="dcterms:W3CDTF">2003-12-22T12:11:21Z</dcterms:modified>
  <cp:revision>4</cp:revision>
  <dc:subject/>
  <dc:title>Fractal Research, Technology, Development, Design and Production of Products</dc:title>
</cp:coreProperties>
</file>